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764F1F-E546-4302-8548-C415A9BB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3AE55-932A-40DD-A174-3FDF9618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9453B-416C-48C2-A000-844379E9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927BD9-C450-4DC0-89FB-825273461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FC99BF-457B-43CF-A2A2-3F0828A4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42416E-6C63-41AE-9165-E3BAA5FF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B7F5E-5CC0-486E-A98B-6BD141C0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87827-5E49-4F6F-AFB4-48AC8C60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CFA9-41EE-4EB1-B431-D5BF76F2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F777-908B-4EB8-80F9-03687F665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A18B-83A7-405B-B49C-5835CD1AB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460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4840" y="15238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436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460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4840" y="387144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4803-6E08-4D13-8FBF-4D473BA28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C92D-AA9E-4E7D-91A1-0C013C1C5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B1E0-9D02-459E-BCA7-8419C37E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05A8-70AA-4497-962E-92BBA9D8A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3B4E-7B27-4246-9637-896B6FBD8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76D63-60EA-43F5-AE8F-78DB0A332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8482-C4F6-4B42-A611-B9FD668BE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2200" y="387144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F20F-8FB7-45E7-A6DF-C52AB7892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200" y="15238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387144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43AD-70C2-40C8-AF70-BB3937873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52388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00640" y="6248160"/>
            <a:ext cx="684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CE009459-0317-4C96-9AA2-E2FF45DD4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5A05AB4F-C0B0-4759-BD1D-B4D6A37165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182880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Point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identifier ou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ntrer un nom avec l’équivalent français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tilisez un article démontratif avant le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2ED23D90-8BEC-452C-A8E5-6B9E474E20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295280" y="4424400"/>
            <a:ext cx="6647040" cy="174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990720" y="1728720"/>
            <a:ext cx="7162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59CBDE4F-1099-4E28-8310-65D4DF414C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1371600" y="1886040"/>
            <a:ext cx="6311880" cy="30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B8BE3638-414D-4EA9-BD38-0C6A29DDAD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que les formes de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uvent se référer à un nom qui est prè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/ th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u à un qui est loi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/t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a signification sera souvent clarifiée par le contex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851120" y="2957400"/>
            <a:ext cx="5441760" cy="14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724120" y="4495680"/>
            <a:ext cx="36957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95C62483-E50F-4236-AB7F-744F544FDA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896840"/>
            <a:ext cx="8459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dire que quelque chose est proche, par rapport à quelque chose de plus lointain, 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–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pectivement, et placez-les à la fin du nom qui suit l’adjectif démonstra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371600" y="3497400"/>
            <a:ext cx="64008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2F7D9BD0-D597-4BC3-AE23-B2580C97DD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4360" y="1649160"/>
            <a:ext cx="80769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z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2400" spc="-1" strike="noStrike">
                <a:solidFill>
                  <a:srgbClr val="2483c8"/>
                </a:solidFill>
                <a:latin typeface="Arial"/>
              </a:rPr>
              <a:t>-l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a même phrase pour comparer des choses simi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638360" y="2517840"/>
            <a:ext cx="58672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943280" y="3889440"/>
            <a:ext cx="52578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01000" y="6248520"/>
            <a:ext cx="68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A.1-</a:t>
            </a:r>
            <a:fld id="{21692134-E600-4E19-AABF-5E34483B8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52600" y="1406520"/>
            <a:ext cx="804852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762120" y="2446200"/>
            <a:ext cx="76975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6800" anchor="t">
            <a:noAutofit/>
          </a:bodyPr>
          <a:p>
            <a:pPr>
              <a:lnSpc>
                <a:spcPct val="93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glace au chocolat est très bonn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’est-ce que tu penses de __________ cadea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homme-là est l’hôte de la fê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préfères __________ biscuits-ci ou __________ biscuits-là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aimez mieux __________ dessert-ci ou __________ dessert-là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année-ci, on va fêter l’anniversaire de mariage de 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 en famil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achètes __________ éclair-là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achetez __________ mont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surprise va être génial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spcAft>
                <a:spcPts val="561"/>
              </a:spcAft>
              <a:tabLst>
                <a:tab algn="l" pos="0"/>
                <a:tab algn="l" pos="39996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 invité-là est antipathiq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81000" y="1617840"/>
            <a:ext cx="7356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165744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ssayez!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létez les phrases avec la form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cte de l’adjectif démonstratif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2483c8"/>
                </a:solidFill>
                <a:latin typeface="Comic Sans MS"/>
              </a:rPr>
              <a:t>C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5:43:44Z</dcterms:created>
  <dc:creator>© 2011 Vista Higher Learning. All rights reserved.</dc:creator>
  <dc:description/>
  <cp:keywords/>
  <dc:language>en-US</dc:language>
  <cp:lastModifiedBy>Viviane Grebert</cp:lastModifiedBy>
  <dcterms:modified xsi:type="dcterms:W3CDTF">2011-10-24T22:38:56Z</dcterms:modified>
  <cp:revision>27</cp:revision>
  <dc:subject>Espaces: Rendez-vous avec le monde francophone, Second Edition</dc:subject>
  <dc:title>Unité 6: Les fêtes</dc:title>
</cp:coreProperties>
</file>